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5D3-7B43-42C2-876D-657D7F05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B91-B294-4718-A6BA-ED1EC885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29B-8E34-4C98-9E85-D6533CC9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8BD-80ED-4BAA-8C19-AC9E0460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E8A-FAD9-47DB-9751-55021C1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F1A-B293-4B62-9BEC-53785FB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C96-7151-4359-BAC4-A8479EA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2D9-C6E2-44AA-8FDB-00F556DB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B78-C15C-4D8A-AA71-EE127B69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17F-BE00-4E11-8865-6A496FE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12E-63A3-4834-B8CC-ECE298D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0CC-1A2E-424B-A847-66B666F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7B4B-F83A-468E-A9ED-0C0E767A75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360" y="857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40000" y="1842480"/>
            <a:ext cx="4753080" cy="4148640"/>
            <a:chOff x="2340000" y="1842480"/>
            <a:chExt cx="4753080" cy="4148640"/>
          </a:xfrm>
        </p:grpSpPr>
        <p:grpSp>
          <p:nvGrpSpPr>
            <p:cNvPr id="43" name=""/>
            <p:cNvGrpSpPr/>
            <p:nvPr/>
          </p:nvGrpSpPr>
          <p:grpSpPr>
            <a:xfrm>
              <a:off x="2340000" y="1842480"/>
              <a:ext cx="2232000" cy="1739160"/>
              <a:chOff x="2340000" y="1842480"/>
              <a:chExt cx="2232000" cy="1739160"/>
            </a:xfrm>
          </p:grpSpPr>
          <p:sp>
            <p:nvSpPr>
              <p:cNvPr id="44" name=""/>
              <p:cNvSpPr/>
              <p:nvPr/>
            </p:nvSpPr>
            <p:spPr>
              <a:xfrm flipV="1">
                <a:off x="2700360" y="1844280"/>
                <a:ext cx="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700360" y="321300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894400" y="33051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Link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6200000">
                <a:off x="1788840" y="2393280"/>
                <a:ext cx="137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Nod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059280" y="1954080"/>
                <a:ext cx="792000" cy="1258920"/>
              </a:xfrm>
              <a:custGeom>
                <a:avLst/>
                <a:gdLst/>
                <a:ahLst/>
                <a:rect l="l" t="t" r="r" b="b"/>
                <a:pathLst>
                  <a:path w="499" h="793">
                    <a:moveTo>
                      <a:pt x="0" y="793"/>
                    </a:moveTo>
                    <a:cubicBezTo>
                      <a:pt x="14" y="774"/>
                      <a:pt x="63" y="733"/>
                      <a:pt x="86" y="680"/>
                    </a:cubicBezTo>
                    <a:cubicBezTo>
                      <a:pt x="109" y="627"/>
                      <a:pt x="114" y="577"/>
                      <a:pt x="137" y="475"/>
                    </a:cubicBezTo>
                    <a:cubicBezTo>
                      <a:pt x="160" y="373"/>
                      <a:pt x="206" y="134"/>
                      <a:pt x="227" y="67"/>
                    </a:cubicBezTo>
                    <a:cubicBezTo>
                      <a:pt x="248" y="0"/>
                      <a:pt x="242" y="3"/>
                      <a:pt x="263" y="71"/>
                    </a:cubicBezTo>
                    <a:cubicBezTo>
                      <a:pt x="284" y="139"/>
                      <a:pt x="331" y="376"/>
                      <a:pt x="353" y="476"/>
                    </a:cubicBezTo>
                    <a:cubicBezTo>
                      <a:pt x="375" y="576"/>
                      <a:pt x="374" y="621"/>
                      <a:pt x="398" y="674"/>
                    </a:cubicBezTo>
                    <a:cubicBezTo>
                      <a:pt x="422" y="727"/>
                      <a:pt x="478" y="768"/>
                      <a:pt x="499" y="7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861080" y="1842480"/>
              <a:ext cx="2232000" cy="1739160"/>
              <a:chOff x="4861080" y="1842480"/>
              <a:chExt cx="2232000" cy="1739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5221440" y="1844280"/>
                <a:ext cx="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21440" y="321300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15480" y="33051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Link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6200000">
                <a:off x="4309920" y="2393280"/>
                <a:ext cx="137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Nod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291280" y="1989000"/>
                <a:ext cx="1581120" cy="1130400"/>
              </a:xfrm>
              <a:custGeom>
                <a:avLst/>
                <a:gdLst/>
                <a:ahLst/>
                <a:rect l="l" t="t" r="r" b="b"/>
                <a:pathLst>
                  <a:path w="996" h="712">
                    <a:moveTo>
                      <a:pt x="1" y="0"/>
                    </a:moveTo>
                    <a:cubicBezTo>
                      <a:pt x="2" y="24"/>
                      <a:pt x="0" y="77"/>
                      <a:pt x="9" y="145"/>
                    </a:cubicBezTo>
                    <a:cubicBezTo>
                      <a:pt x="18" y="213"/>
                      <a:pt x="30" y="337"/>
                      <a:pt x="57" y="409"/>
                    </a:cubicBezTo>
                    <a:cubicBezTo>
                      <a:pt x="84" y="481"/>
                      <a:pt x="106" y="530"/>
                      <a:pt x="171" y="574"/>
                    </a:cubicBezTo>
                    <a:cubicBezTo>
                      <a:pt x="236" y="618"/>
                      <a:pt x="307" y="647"/>
                      <a:pt x="444" y="670"/>
                    </a:cubicBezTo>
                    <a:cubicBezTo>
                      <a:pt x="581" y="693"/>
                      <a:pt x="881" y="703"/>
                      <a:pt x="996" y="71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484360" y="3932280"/>
              <a:ext cx="1871640" cy="1873080"/>
              <a:chOff x="2484360" y="3932280"/>
              <a:chExt cx="1871640" cy="1873080"/>
            </a:xfrm>
          </p:grpSpPr>
          <p:sp>
            <p:nvSpPr>
              <p:cNvPr id="56" name=""/>
              <p:cNvSpPr/>
              <p:nvPr/>
            </p:nvSpPr>
            <p:spPr>
              <a:xfrm>
                <a:off x="2987640" y="4365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59280" y="4581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0364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3640" y="472428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51280" y="5229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67280" y="5445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5600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00360" y="422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43280" y="4149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" name=""/>
              <p:cNvCxnSpPr>
                <a:stCxn id="63" idx="7"/>
                <a:endCxn id="64" idx="2"/>
              </p:cNvCxnSpPr>
              <p:nvPr/>
            </p:nvCxnSpPr>
            <p:spPr>
              <a:xfrm flipV="1">
                <a:off x="2761200" y="4185360"/>
                <a:ext cx="8244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56" idx="4"/>
                <a:endCxn id="57" idx="0"/>
              </p:cNvCxnSpPr>
              <p:nvPr/>
            </p:nvCxnSpPr>
            <p:spPr>
              <a:xfrm>
                <a:off x="3023640" y="4437000"/>
                <a:ext cx="71640" cy="14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7" name=""/>
              <p:cNvSpPr/>
              <p:nvPr/>
            </p:nvSpPr>
            <p:spPr>
              <a:xfrm>
                <a:off x="2627280" y="458136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84360" y="443700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59280" y="4076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16360" y="4005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1"/>
                <a:endCxn id="70" idx="6"/>
              </p:cNvCxnSpPr>
              <p:nvPr/>
            </p:nvCxnSpPr>
            <p:spPr>
              <a:xfrm flipH="1" flipV="1">
                <a:off x="2987640" y="4041000"/>
                <a:ext cx="8244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" name=""/>
              <p:cNvSpPr/>
              <p:nvPr/>
            </p:nvSpPr>
            <p:spPr>
              <a:xfrm>
                <a:off x="3276720" y="4581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49800" y="472608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7672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03640" y="50115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71640" y="472428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4328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32000" y="429264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19640" y="4508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132000" y="486900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1636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76720" y="5084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48000" y="501336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41964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5928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9892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556000" y="5516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27280" y="5373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771640" y="5373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" name=""/>
              <p:cNvCxnSpPr>
                <a:stCxn id="87" idx="0"/>
                <a:endCxn id="88" idx="3"/>
              </p:cNvCxnSpPr>
              <p:nvPr/>
            </p:nvCxnSpPr>
            <p:spPr>
              <a:xfrm flipV="1">
                <a:off x="2591640" y="5434560"/>
                <a:ext cx="464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" name=""/>
              <p:cNvCxnSpPr>
                <a:stCxn id="88" idx="6"/>
                <a:endCxn id="89" idx="2"/>
              </p:cNvCxnSpPr>
              <p:nvPr/>
            </p:nvCxnSpPr>
            <p:spPr>
              <a:xfrm>
                <a:off x="2698920" y="5409360"/>
                <a:ext cx="7308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2987640" y="566100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2000" y="573408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" name=""/>
              <p:cNvCxnSpPr>
                <a:stCxn id="92" idx="5"/>
                <a:endCxn id="93" idx="1"/>
              </p:cNvCxnSpPr>
              <p:nvPr/>
            </p:nvCxnSpPr>
            <p:spPr>
              <a:xfrm>
                <a:off x="3048840" y="5722200"/>
                <a:ext cx="9396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3132000" y="551664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03640" y="5373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74920" y="523080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48000" y="573408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35280" y="566100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80000" y="566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24360" y="5516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" name=""/>
              <p:cNvCxnSpPr>
                <a:stCxn id="99" idx="6"/>
                <a:endCxn id="100" idx="2"/>
              </p:cNvCxnSpPr>
              <p:nvPr/>
            </p:nvCxnSpPr>
            <p:spPr>
              <a:xfrm>
                <a:off x="3706920" y="5697000"/>
                <a:ext cx="734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"/>
              <p:cNvCxnSpPr>
                <a:stCxn id="100" idx="7"/>
                <a:endCxn id="101" idx="3"/>
              </p:cNvCxnSpPr>
              <p:nvPr/>
            </p:nvCxnSpPr>
            <p:spPr>
              <a:xfrm flipV="1">
                <a:off x="3840840" y="5577480"/>
                <a:ext cx="94320" cy="9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3348000" y="5373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64000" y="5300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8360" y="530064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8360" y="515772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6400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92360" y="508464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19640" y="4941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1964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19640" y="4653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4000" y="4653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35280" y="458136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08360" y="4365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1440" y="4149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51280" y="4365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8000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5128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5640" y="494172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11640" y="5013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8472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036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95640" y="472428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67280" y="4581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67280" y="4292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67280" y="40035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40360" y="4149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84720" y="422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"/>
              <p:cNvCxnSpPr>
                <a:stCxn id="127" idx="5"/>
                <a:endCxn id="128" idx="0"/>
              </p:cNvCxnSpPr>
              <p:nvPr/>
            </p:nvCxnSpPr>
            <p:spPr>
              <a:xfrm>
                <a:off x="4128120" y="4064760"/>
                <a:ext cx="48240" cy="8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"/>
              <p:cNvCxnSpPr>
                <a:stCxn id="128" idx="5"/>
                <a:endCxn id="129" idx="1"/>
              </p:cNvCxnSpPr>
              <p:nvPr/>
            </p:nvCxnSpPr>
            <p:spPr>
              <a:xfrm>
                <a:off x="4201200" y="4210560"/>
                <a:ext cx="943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2" name=""/>
              <p:cNvSpPr/>
              <p:nvPr/>
            </p:nvSpPr>
            <p:spPr>
              <a:xfrm>
                <a:off x="3348000" y="4365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76720" y="42228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19640" y="422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19640" y="4076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9640" y="393228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6400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08360" y="494172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80000" y="5013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6400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08360" y="465300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5600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1164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11640" y="5373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11640" y="5516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"/>
              <p:cNvCxnSpPr>
                <a:stCxn id="61" idx="7"/>
                <a:endCxn id="144" idx="3"/>
              </p:cNvCxnSpPr>
              <p:nvPr/>
            </p:nvCxnSpPr>
            <p:spPr>
              <a:xfrm flipV="1">
                <a:off x="4128120" y="5434560"/>
                <a:ext cx="943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"/>
              <p:cNvCxnSpPr>
                <a:stCxn id="61" idx="6"/>
                <a:endCxn id="145" idx="1"/>
              </p:cNvCxnSpPr>
              <p:nvPr/>
            </p:nvCxnSpPr>
            <p:spPr>
              <a:xfrm>
                <a:off x="4138560" y="5481000"/>
                <a:ext cx="838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"/>
              <p:cNvCxnSpPr>
                <a:stCxn id="78" idx="4"/>
                <a:endCxn id="58" idx="0"/>
              </p:cNvCxnSpPr>
              <p:nvPr/>
            </p:nvCxnSpPr>
            <p:spPr>
              <a:xfrm>
                <a:off x="3168000" y="4363920"/>
                <a:ext cx="7164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9" name=""/>
              <p:cNvCxnSpPr>
                <a:stCxn id="136" idx="4"/>
                <a:endCxn id="135" idx="0"/>
              </p:cNvCxnSpPr>
              <p:nvPr/>
            </p:nvCxnSpPr>
            <p:spPr>
              <a:xfrm>
                <a:off x="3455280" y="400356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"/>
              <p:cNvCxnSpPr>
                <a:stCxn id="135" idx="4"/>
                <a:endCxn id="134" idx="0"/>
              </p:cNvCxnSpPr>
              <p:nvPr/>
            </p:nvCxnSpPr>
            <p:spPr>
              <a:xfrm>
                <a:off x="3455280" y="4148280"/>
                <a:ext cx="360" cy="7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"/>
              <p:cNvCxnSpPr>
                <a:stCxn id="133" idx="4"/>
                <a:endCxn id="132" idx="1"/>
              </p:cNvCxnSpPr>
              <p:nvPr/>
            </p:nvCxnSpPr>
            <p:spPr>
              <a:xfrm>
                <a:off x="3312360" y="4294080"/>
                <a:ext cx="464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"/>
              <p:cNvCxnSpPr>
                <a:stCxn id="134" idx="4"/>
                <a:endCxn id="132" idx="7"/>
              </p:cNvCxnSpPr>
              <p:nvPr/>
            </p:nvCxnSpPr>
            <p:spPr>
              <a:xfrm flipH="1">
                <a:off x="3409200" y="429264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132" idx="5"/>
                <a:endCxn id="79" idx="0"/>
              </p:cNvCxnSpPr>
              <p:nvPr/>
            </p:nvCxnSpPr>
            <p:spPr>
              <a:xfrm>
                <a:off x="3409200" y="4426560"/>
                <a:ext cx="464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57" idx="7"/>
                <a:endCxn id="58" idx="3"/>
              </p:cNvCxnSpPr>
              <p:nvPr/>
            </p:nvCxnSpPr>
            <p:spPr>
              <a:xfrm flipV="1">
                <a:off x="3120120" y="4498200"/>
                <a:ext cx="9432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77" idx="5"/>
                <a:endCxn id="57" idx="1"/>
              </p:cNvCxnSpPr>
              <p:nvPr/>
            </p:nvCxnSpPr>
            <p:spPr>
              <a:xfrm>
                <a:off x="2904120" y="4498200"/>
                <a:ext cx="16596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72" idx="0"/>
                <a:endCxn id="58" idx="5"/>
              </p:cNvCxnSpPr>
              <p:nvPr/>
            </p:nvCxnSpPr>
            <p:spPr>
              <a:xfrm flipH="1" flipV="1">
                <a:off x="3264480" y="4498200"/>
                <a:ext cx="48240" cy="8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57" idx="6"/>
                <a:endCxn id="72" idx="2"/>
              </p:cNvCxnSpPr>
              <p:nvPr/>
            </p:nvCxnSpPr>
            <p:spPr>
              <a:xfrm>
                <a:off x="3130560" y="4617360"/>
                <a:ext cx="1465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72" idx="6"/>
                <a:endCxn id="79" idx="3"/>
              </p:cNvCxnSpPr>
              <p:nvPr/>
            </p:nvCxnSpPr>
            <p:spPr>
              <a:xfrm flipV="1">
                <a:off x="3348000" y="4569480"/>
                <a:ext cx="82440" cy="4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79" idx="6"/>
                <a:endCxn id="137" idx="3"/>
              </p:cNvCxnSpPr>
              <p:nvPr/>
            </p:nvCxnSpPr>
            <p:spPr>
              <a:xfrm flipV="1">
                <a:off x="3490920" y="4498200"/>
                <a:ext cx="838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37" idx="7"/>
                <a:endCxn id="115" idx="3"/>
              </p:cNvCxnSpPr>
              <p:nvPr/>
            </p:nvCxnSpPr>
            <p:spPr>
              <a:xfrm flipV="1">
                <a:off x="3624840" y="4426560"/>
                <a:ext cx="943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1" name=""/>
              <p:cNvSpPr/>
              <p:nvPr/>
            </p:nvSpPr>
            <p:spPr>
              <a:xfrm>
                <a:off x="3635280" y="429264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2" name=""/>
              <p:cNvCxnSpPr>
                <a:stCxn id="137" idx="0"/>
                <a:endCxn id="161" idx="3"/>
              </p:cNvCxnSpPr>
              <p:nvPr/>
            </p:nvCxnSpPr>
            <p:spPr>
              <a:xfrm flipV="1">
                <a:off x="3599640" y="435348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14" idx="1"/>
                <a:endCxn id="137" idx="5"/>
              </p:cNvCxnSpPr>
              <p:nvPr/>
            </p:nvCxnSpPr>
            <p:spPr>
              <a:xfrm flipH="1" flipV="1">
                <a:off x="3624840" y="4498200"/>
                <a:ext cx="2124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4" name=""/>
              <p:cNvCxnSpPr>
                <a:stCxn id="113" idx="1"/>
                <a:endCxn id="79" idx="5"/>
              </p:cNvCxnSpPr>
              <p:nvPr/>
            </p:nvCxnSpPr>
            <p:spPr>
              <a:xfrm flipH="1" flipV="1">
                <a:off x="3480480" y="4569480"/>
                <a:ext cx="94320" cy="9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"/>
              <p:cNvCxnSpPr>
                <a:stCxn id="112" idx="7"/>
                <a:endCxn id="113" idx="1"/>
              </p:cNvCxnSpPr>
              <p:nvPr/>
            </p:nvCxnSpPr>
            <p:spPr>
              <a:xfrm>
                <a:off x="3480480" y="4663440"/>
                <a:ext cx="943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"/>
              <p:cNvCxnSpPr>
                <a:stCxn id="112" idx="0"/>
                <a:endCxn id="79" idx="4"/>
              </p:cNvCxnSpPr>
              <p:nvPr/>
            </p:nvCxnSpPr>
            <p:spPr>
              <a:xfrm flipV="1">
                <a:off x="3455280" y="457992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"/>
              <p:cNvCxnSpPr>
                <a:stCxn id="59" idx="7"/>
                <a:endCxn id="72" idx="3"/>
              </p:cNvCxnSpPr>
              <p:nvPr/>
            </p:nvCxnSpPr>
            <p:spPr>
              <a:xfrm flipV="1">
                <a:off x="3264480" y="4642560"/>
                <a:ext cx="23040" cy="9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8" name=""/>
              <p:cNvCxnSpPr>
                <a:stCxn id="59" idx="1"/>
                <a:endCxn id="57" idx="5"/>
              </p:cNvCxnSpPr>
              <p:nvPr/>
            </p:nvCxnSpPr>
            <p:spPr>
              <a:xfrm flipH="1" flipV="1">
                <a:off x="3120120" y="4642560"/>
                <a:ext cx="94320" cy="9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9" name=""/>
              <p:cNvCxnSpPr>
                <a:stCxn id="57" idx="4"/>
                <a:endCxn id="76" idx="7"/>
              </p:cNvCxnSpPr>
              <p:nvPr/>
            </p:nvCxnSpPr>
            <p:spPr>
              <a:xfrm flipH="1">
                <a:off x="2832840" y="4653000"/>
                <a:ext cx="2624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0" name=""/>
              <p:cNvCxnSpPr>
                <a:stCxn id="81" idx="6"/>
                <a:endCxn id="80" idx="2"/>
              </p:cNvCxnSpPr>
              <p:nvPr/>
            </p:nvCxnSpPr>
            <p:spPr>
              <a:xfrm>
                <a:off x="2987640" y="4904640"/>
                <a:ext cx="1447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1" name=""/>
              <p:cNvCxnSpPr>
                <a:stCxn id="80" idx="0"/>
                <a:endCxn id="59" idx="3"/>
              </p:cNvCxnSpPr>
              <p:nvPr/>
            </p:nvCxnSpPr>
            <p:spPr>
              <a:xfrm flipV="1">
                <a:off x="3168000" y="478548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2" name=""/>
              <p:cNvCxnSpPr>
                <a:stCxn id="74" idx="1"/>
                <a:endCxn id="59" idx="4"/>
              </p:cNvCxnSpPr>
              <p:nvPr/>
            </p:nvCxnSpPr>
            <p:spPr>
              <a:xfrm flipH="1" flipV="1">
                <a:off x="3239280" y="4795920"/>
                <a:ext cx="482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3" name=""/>
              <p:cNvCxnSpPr>
                <a:stCxn id="74" idx="6"/>
                <a:endCxn id="138" idx="1"/>
              </p:cNvCxnSpPr>
              <p:nvPr/>
            </p:nvCxnSpPr>
            <p:spPr>
              <a:xfrm>
                <a:off x="3348000" y="4904640"/>
                <a:ext cx="37116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4" name=""/>
              <p:cNvCxnSpPr>
                <a:stCxn id="83" idx="0"/>
                <a:endCxn id="73" idx="4"/>
              </p:cNvCxnSpPr>
              <p:nvPr/>
            </p:nvCxnSpPr>
            <p:spPr>
              <a:xfrm flipV="1">
                <a:off x="3384000" y="4797360"/>
                <a:ext cx="1800" cy="216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"/>
              <p:cNvCxnSpPr>
                <a:stCxn id="59" idx="7"/>
                <a:endCxn id="79" idx="4"/>
              </p:cNvCxnSpPr>
              <p:nvPr/>
            </p:nvCxnSpPr>
            <p:spPr>
              <a:xfrm flipV="1">
                <a:off x="3264480" y="4579920"/>
                <a:ext cx="191160" cy="155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"/>
              <p:cNvCxnSpPr>
                <a:stCxn id="75" idx="7"/>
                <a:endCxn id="83" idx="2"/>
              </p:cNvCxnSpPr>
              <p:nvPr/>
            </p:nvCxnSpPr>
            <p:spPr>
              <a:xfrm>
                <a:off x="3264480" y="5022000"/>
                <a:ext cx="83880" cy="2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7" name=""/>
              <p:cNvCxnSpPr>
                <a:stCxn id="85" idx="6"/>
                <a:endCxn id="75" idx="3"/>
              </p:cNvCxnSpPr>
              <p:nvPr/>
            </p:nvCxnSpPr>
            <p:spPr>
              <a:xfrm flipV="1">
                <a:off x="3130560" y="5072760"/>
                <a:ext cx="83880" cy="121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8" name=""/>
              <p:cNvCxnSpPr>
                <a:stCxn id="109" idx="0"/>
                <a:endCxn id="110" idx="5"/>
              </p:cNvCxnSpPr>
              <p:nvPr/>
            </p:nvCxnSpPr>
            <p:spPr>
              <a:xfrm flipH="1" flipV="1">
                <a:off x="3480480" y="5002920"/>
                <a:ext cx="482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9" name=""/>
              <p:cNvCxnSpPr>
                <a:stCxn id="110" idx="7"/>
                <a:endCxn id="140" idx="4"/>
              </p:cNvCxnSpPr>
              <p:nvPr/>
            </p:nvCxnSpPr>
            <p:spPr>
              <a:xfrm flipV="1">
                <a:off x="3480480" y="4869000"/>
                <a:ext cx="119520" cy="8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0" name=""/>
              <p:cNvCxnSpPr>
                <a:stCxn id="111" idx="7"/>
                <a:endCxn id="113" idx="4"/>
              </p:cNvCxnSpPr>
              <p:nvPr/>
            </p:nvCxnSpPr>
            <p:spPr>
              <a:xfrm flipV="1">
                <a:off x="3480480" y="4724280"/>
                <a:ext cx="11952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1" name=""/>
              <p:cNvCxnSpPr>
                <a:stCxn id="112" idx="5"/>
                <a:endCxn id="140" idx="1"/>
              </p:cNvCxnSpPr>
              <p:nvPr/>
            </p:nvCxnSpPr>
            <p:spPr>
              <a:xfrm>
                <a:off x="3480480" y="4713840"/>
                <a:ext cx="94320" cy="9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2" name=""/>
              <p:cNvCxnSpPr>
                <a:stCxn id="114" idx="3"/>
                <a:endCxn id="141" idx="1"/>
              </p:cNvCxnSpPr>
              <p:nvPr/>
            </p:nvCxnSpPr>
            <p:spPr>
              <a:xfrm>
                <a:off x="3645720" y="4642560"/>
                <a:ext cx="7344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3" name=""/>
              <p:cNvCxnSpPr>
                <a:stCxn id="109" idx="0"/>
                <a:endCxn id="141" idx="4"/>
              </p:cNvCxnSpPr>
              <p:nvPr/>
            </p:nvCxnSpPr>
            <p:spPr>
              <a:xfrm flipV="1">
                <a:off x="3528360" y="4724280"/>
                <a:ext cx="21636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4" name=""/>
              <p:cNvCxnSpPr>
                <a:stCxn id="138" idx="0"/>
                <a:endCxn id="114" idx="4"/>
              </p:cNvCxnSpPr>
              <p:nvPr/>
            </p:nvCxnSpPr>
            <p:spPr>
              <a:xfrm flipH="1" flipV="1">
                <a:off x="3671280" y="4653000"/>
                <a:ext cx="73440" cy="28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5" name=""/>
              <p:cNvCxnSpPr>
                <a:stCxn id="141" idx="5"/>
                <a:endCxn id="118" idx="0"/>
              </p:cNvCxnSpPr>
              <p:nvPr/>
            </p:nvCxnSpPr>
            <p:spPr>
              <a:xfrm>
                <a:off x="3769560" y="471384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6" name=""/>
              <p:cNvCxnSpPr>
                <a:stCxn id="118" idx="6"/>
                <a:endCxn id="124" idx="2"/>
              </p:cNvCxnSpPr>
              <p:nvPr/>
            </p:nvCxnSpPr>
            <p:spPr>
              <a:xfrm flipV="1">
                <a:off x="3851280" y="4760280"/>
                <a:ext cx="14472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7" name=""/>
              <p:cNvCxnSpPr>
                <a:stCxn id="124" idx="0"/>
                <a:endCxn id="125" idx="3"/>
              </p:cNvCxnSpPr>
              <p:nvPr/>
            </p:nvCxnSpPr>
            <p:spPr>
              <a:xfrm flipV="1">
                <a:off x="4031640" y="4642560"/>
                <a:ext cx="464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"/>
              <p:cNvCxnSpPr>
                <a:stCxn id="118" idx="4"/>
                <a:endCxn id="119" idx="1"/>
              </p:cNvCxnSpPr>
              <p:nvPr/>
            </p:nvCxnSpPr>
            <p:spPr>
              <a:xfrm>
                <a:off x="3815640" y="4869000"/>
                <a:ext cx="46440" cy="1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9" name=""/>
              <p:cNvCxnSpPr>
                <a:stCxn id="138" idx="7"/>
                <a:endCxn id="119" idx="2"/>
              </p:cNvCxnSpPr>
              <p:nvPr/>
            </p:nvCxnSpPr>
            <p:spPr>
              <a:xfrm flipV="1">
                <a:off x="3769560" y="4904640"/>
                <a:ext cx="820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0" name=""/>
              <p:cNvCxnSpPr>
                <a:stCxn id="119" idx="6"/>
                <a:endCxn id="120" idx="1"/>
              </p:cNvCxnSpPr>
              <p:nvPr/>
            </p:nvCxnSpPr>
            <p:spPr>
              <a:xfrm>
                <a:off x="3922560" y="4904640"/>
                <a:ext cx="83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1" name=""/>
              <p:cNvCxnSpPr>
                <a:stCxn id="120" idx="7"/>
                <a:endCxn id="123" idx="2"/>
              </p:cNvCxnSpPr>
              <p:nvPr/>
            </p:nvCxnSpPr>
            <p:spPr>
              <a:xfrm flipV="1">
                <a:off x="4056840" y="4904640"/>
                <a:ext cx="83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23" idx="6"/>
                <a:endCxn id="122" idx="2"/>
              </p:cNvCxnSpPr>
              <p:nvPr/>
            </p:nvCxnSpPr>
            <p:spPr>
              <a:xfrm>
                <a:off x="4211640" y="4904640"/>
                <a:ext cx="734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20" idx="6"/>
                <a:endCxn id="121" idx="1"/>
              </p:cNvCxnSpPr>
              <p:nvPr/>
            </p:nvCxnSpPr>
            <p:spPr>
              <a:xfrm>
                <a:off x="4067280" y="4977720"/>
                <a:ext cx="15516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15" idx="6"/>
                <a:endCxn id="117" idx="3"/>
              </p:cNvCxnSpPr>
              <p:nvPr/>
            </p:nvCxnSpPr>
            <p:spPr>
              <a:xfrm>
                <a:off x="3780000" y="4401360"/>
                <a:ext cx="8208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15" idx="7"/>
                <a:endCxn id="116" idx="4"/>
              </p:cNvCxnSpPr>
              <p:nvPr/>
            </p:nvCxnSpPr>
            <p:spPr>
              <a:xfrm flipV="1">
                <a:off x="3769560" y="4221000"/>
                <a:ext cx="47880" cy="15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6" name=""/>
              <p:cNvCxnSpPr>
                <a:stCxn id="110" idx="5"/>
                <a:endCxn id="139" idx="2"/>
              </p:cNvCxnSpPr>
              <p:nvPr/>
            </p:nvCxnSpPr>
            <p:spPr>
              <a:xfrm>
                <a:off x="3480480" y="5002920"/>
                <a:ext cx="2998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7" name=""/>
              <p:cNvCxnSpPr>
                <a:stCxn id="138" idx="4"/>
                <a:endCxn id="139" idx="0"/>
              </p:cNvCxnSpPr>
              <p:nvPr/>
            </p:nvCxnSpPr>
            <p:spPr>
              <a:xfrm>
                <a:off x="3744360" y="5013360"/>
                <a:ext cx="716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8" name=""/>
              <p:cNvCxnSpPr>
                <a:stCxn id="138" idx="4"/>
                <a:endCxn id="107" idx="0"/>
              </p:cNvCxnSpPr>
              <p:nvPr/>
            </p:nvCxnSpPr>
            <p:spPr>
              <a:xfrm>
                <a:off x="3744360" y="5013360"/>
                <a:ext cx="360" cy="14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"/>
              <p:cNvCxnSpPr>
                <a:stCxn id="139" idx="2"/>
                <a:endCxn id="109" idx="7"/>
              </p:cNvCxnSpPr>
              <p:nvPr/>
            </p:nvCxnSpPr>
            <p:spPr>
              <a:xfrm flipH="1">
                <a:off x="3553560" y="5049000"/>
                <a:ext cx="22680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0" name=""/>
              <p:cNvCxnSpPr>
                <a:stCxn id="75" idx="5"/>
                <a:endCxn id="82" idx="1"/>
              </p:cNvCxnSpPr>
              <p:nvPr/>
            </p:nvCxnSpPr>
            <p:spPr>
              <a:xfrm>
                <a:off x="3264480" y="5072760"/>
                <a:ext cx="2304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1" name=""/>
              <p:cNvCxnSpPr>
                <a:stCxn id="82" idx="4"/>
                <a:endCxn id="97" idx="0"/>
              </p:cNvCxnSpPr>
              <p:nvPr/>
            </p:nvCxnSpPr>
            <p:spPr>
              <a:xfrm flipH="1">
                <a:off x="3310920" y="5156280"/>
                <a:ext cx="1800" cy="7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2" name=""/>
              <p:cNvCxnSpPr>
                <a:stCxn id="97" idx="3"/>
                <a:endCxn id="96" idx="7"/>
              </p:cNvCxnSpPr>
              <p:nvPr/>
            </p:nvCxnSpPr>
            <p:spPr>
              <a:xfrm flipH="1">
                <a:off x="3264480" y="5291640"/>
                <a:ext cx="21240" cy="9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"/>
              <p:cNvCxnSpPr>
                <a:stCxn id="84" idx="3"/>
                <a:endCxn id="83" idx="5"/>
              </p:cNvCxnSpPr>
              <p:nvPr/>
            </p:nvCxnSpPr>
            <p:spPr>
              <a:xfrm flipH="1" flipV="1">
                <a:off x="3409200" y="5074200"/>
                <a:ext cx="21240" cy="145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4" name=""/>
              <p:cNvCxnSpPr>
                <a:stCxn id="84" idx="2"/>
                <a:endCxn id="97" idx="7"/>
              </p:cNvCxnSpPr>
              <p:nvPr/>
            </p:nvCxnSpPr>
            <p:spPr>
              <a:xfrm flipH="1">
                <a:off x="3336120" y="5193720"/>
                <a:ext cx="83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5" name=""/>
              <p:cNvCxnSpPr>
                <a:stCxn id="80" idx="4"/>
                <a:endCxn id="75" idx="0"/>
              </p:cNvCxnSpPr>
              <p:nvPr/>
            </p:nvCxnSpPr>
            <p:spPr>
              <a:xfrm>
                <a:off x="3168000" y="4940280"/>
                <a:ext cx="71640" cy="7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6" name=""/>
              <p:cNvCxnSpPr>
                <a:stCxn id="73" idx="3"/>
                <a:endCxn id="80" idx="7"/>
              </p:cNvCxnSpPr>
              <p:nvPr/>
            </p:nvCxnSpPr>
            <p:spPr>
              <a:xfrm flipH="1">
                <a:off x="3193200" y="4786920"/>
                <a:ext cx="167400" cy="9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7" name=""/>
              <p:cNvCxnSpPr>
                <a:stCxn id="97" idx="5"/>
                <a:endCxn id="104" idx="0"/>
              </p:cNvCxnSpPr>
              <p:nvPr/>
            </p:nvCxnSpPr>
            <p:spPr>
              <a:xfrm>
                <a:off x="3336120" y="5291640"/>
                <a:ext cx="482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8" name=""/>
              <p:cNvCxnSpPr>
                <a:stCxn id="84" idx="5"/>
                <a:endCxn id="105" idx="0"/>
              </p:cNvCxnSpPr>
              <p:nvPr/>
            </p:nvCxnSpPr>
            <p:spPr>
              <a:xfrm>
                <a:off x="3480480" y="5218920"/>
                <a:ext cx="11952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9" name=""/>
              <p:cNvCxnSpPr>
                <a:stCxn id="108" idx="1"/>
                <a:endCxn id="109" idx="5"/>
              </p:cNvCxnSpPr>
              <p:nvPr/>
            </p:nvCxnSpPr>
            <p:spPr>
              <a:xfrm flipH="1" flipV="1">
                <a:off x="3553560" y="5145840"/>
                <a:ext cx="2124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0" name=""/>
              <p:cNvCxnSpPr>
                <a:stCxn id="107" idx="5"/>
                <a:endCxn id="60" idx="2"/>
              </p:cNvCxnSpPr>
              <p:nvPr/>
            </p:nvCxnSpPr>
            <p:spPr>
              <a:xfrm>
                <a:off x="3769560" y="5218920"/>
                <a:ext cx="820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1" name=""/>
              <p:cNvCxnSpPr>
                <a:stCxn id="108" idx="4"/>
                <a:endCxn id="106" idx="1"/>
              </p:cNvCxnSpPr>
              <p:nvPr/>
            </p:nvCxnSpPr>
            <p:spPr>
              <a:xfrm>
                <a:off x="3599640" y="5229360"/>
                <a:ext cx="11952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2" name=""/>
              <p:cNvCxnSpPr>
                <a:stCxn id="107" idx="1"/>
                <a:endCxn id="108" idx="7"/>
              </p:cNvCxnSpPr>
              <p:nvPr/>
            </p:nvCxnSpPr>
            <p:spPr>
              <a:xfrm flipH="1">
                <a:off x="3624840" y="5168160"/>
                <a:ext cx="943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3" name=""/>
              <p:cNvCxnSpPr>
                <a:stCxn id="109" idx="1"/>
                <a:endCxn id="83" idx="6"/>
              </p:cNvCxnSpPr>
              <p:nvPr/>
            </p:nvCxnSpPr>
            <p:spPr>
              <a:xfrm flipH="1" flipV="1">
                <a:off x="3419640" y="5049000"/>
                <a:ext cx="8352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4" name=""/>
              <p:cNvCxnSpPr>
                <a:stCxn id="75" idx="0"/>
                <a:endCxn id="74" idx="3"/>
              </p:cNvCxnSpPr>
              <p:nvPr/>
            </p:nvCxnSpPr>
            <p:spPr>
              <a:xfrm flipV="1">
                <a:off x="3239280" y="4929840"/>
                <a:ext cx="482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5" name=""/>
              <p:cNvCxnSpPr>
                <a:stCxn id="110" idx="0"/>
                <a:endCxn id="111" idx="4"/>
              </p:cNvCxnSpPr>
              <p:nvPr/>
            </p:nvCxnSpPr>
            <p:spPr>
              <a:xfrm flipV="1">
                <a:off x="3455280" y="4869000"/>
                <a:ext cx="360" cy="7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6" name=""/>
              <p:cNvCxnSpPr>
                <a:stCxn id="140" idx="2"/>
                <a:endCxn id="111" idx="6"/>
              </p:cNvCxnSpPr>
              <p:nvPr/>
            </p:nvCxnSpPr>
            <p:spPr>
              <a:xfrm flipH="1">
                <a:off x="3490920" y="4833360"/>
                <a:ext cx="734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7" name=""/>
              <p:cNvCxnSpPr>
                <a:stCxn id="74" idx="7"/>
                <a:endCxn id="111" idx="3"/>
              </p:cNvCxnSpPr>
              <p:nvPr/>
            </p:nvCxnSpPr>
            <p:spPr>
              <a:xfrm flipV="1">
                <a:off x="3337560" y="4858560"/>
                <a:ext cx="9288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8" name=""/>
              <p:cNvCxnSpPr>
                <a:stCxn id="73" idx="1"/>
                <a:endCxn id="72" idx="4"/>
              </p:cNvCxnSpPr>
              <p:nvPr/>
            </p:nvCxnSpPr>
            <p:spPr>
              <a:xfrm flipH="1" flipV="1">
                <a:off x="3312360" y="4653000"/>
                <a:ext cx="482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9" name=""/>
              <p:cNvCxnSpPr>
                <a:stCxn id="74" idx="0"/>
                <a:endCxn id="73" idx="3"/>
              </p:cNvCxnSpPr>
              <p:nvPr/>
            </p:nvCxnSpPr>
            <p:spPr>
              <a:xfrm flipV="1">
                <a:off x="3312360" y="4786920"/>
                <a:ext cx="482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"/>
              <p:cNvCxnSpPr>
                <a:stCxn id="113" idx="6"/>
                <a:endCxn id="118" idx="1"/>
              </p:cNvCxnSpPr>
              <p:nvPr/>
            </p:nvCxnSpPr>
            <p:spPr>
              <a:xfrm>
                <a:off x="3635280" y="4688640"/>
                <a:ext cx="155520" cy="11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"/>
              <p:cNvCxnSpPr>
                <a:stCxn id="111" idx="0"/>
                <a:endCxn id="112" idx="4"/>
              </p:cNvCxnSpPr>
              <p:nvPr/>
            </p:nvCxnSpPr>
            <p:spPr>
              <a:xfrm flipV="1">
                <a:off x="3455280" y="472428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2" name=""/>
              <p:cNvCxnSpPr>
                <a:stCxn id="83" idx="0"/>
                <a:endCxn id="74" idx="5"/>
              </p:cNvCxnSpPr>
              <p:nvPr/>
            </p:nvCxnSpPr>
            <p:spPr>
              <a:xfrm flipH="1" flipV="1">
                <a:off x="3337560" y="4929840"/>
                <a:ext cx="4680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3" name=""/>
              <p:cNvCxnSpPr>
                <a:stCxn id="110" idx="1"/>
                <a:endCxn id="74" idx="5"/>
              </p:cNvCxnSpPr>
              <p:nvPr/>
            </p:nvCxnSpPr>
            <p:spPr>
              <a:xfrm flipH="1" flipV="1">
                <a:off x="3337560" y="4929840"/>
                <a:ext cx="9288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4" name=""/>
              <p:cNvCxnSpPr>
                <a:stCxn id="109" idx="0"/>
                <a:endCxn id="140" idx="4"/>
              </p:cNvCxnSpPr>
              <p:nvPr/>
            </p:nvCxnSpPr>
            <p:spPr>
              <a:xfrm flipV="1">
                <a:off x="3528360" y="4869000"/>
                <a:ext cx="71640" cy="21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25" name=""/>
            <p:cNvGrpSpPr/>
            <p:nvPr/>
          </p:nvGrpSpPr>
          <p:grpSpPr>
            <a:xfrm>
              <a:off x="5049720" y="3832200"/>
              <a:ext cx="1900440" cy="2158920"/>
              <a:chOff x="5049720" y="3832200"/>
              <a:chExt cx="1900440" cy="2158920"/>
            </a:xfrm>
          </p:grpSpPr>
          <p:sp>
            <p:nvSpPr>
              <p:cNvPr id="226" name=""/>
              <p:cNvSpPr/>
              <p:nvPr/>
            </p:nvSpPr>
            <p:spPr>
              <a:xfrm>
                <a:off x="6012000" y="479736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29480" y="46004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12000" y="450864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56360" y="45813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27640" y="47242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27640" y="48690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8472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728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78520" y="50277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49658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7240" y="454176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65760" y="4686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62520" y="47782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73680" y="48798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81600" y="51084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4036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46680" y="5321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48400" y="5265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87920" y="51674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80000" y="50734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62440" y="49561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3564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219640" y="5084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9" name=""/>
              <p:cNvCxnSpPr>
                <a:stCxn id="226" idx="4"/>
                <a:endCxn id="233" idx="0"/>
              </p:cNvCxnSpPr>
              <p:nvPr/>
            </p:nvCxnSpPr>
            <p:spPr>
              <a:xfrm flipH="1">
                <a:off x="5904000" y="4869000"/>
                <a:ext cx="144720" cy="14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"/>
              <p:cNvCxnSpPr>
                <a:stCxn id="226" idx="4"/>
                <a:endCxn id="234" idx="0"/>
              </p:cNvCxnSpPr>
              <p:nvPr/>
            </p:nvCxnSpPr>
            <p:spPr>
              <a:xfrm flipH="1">
                <a:off x="6015240" y="4869000"/>
                <a:ext cx="33480" cy="15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"/>
              <p:cNvCxnSpPr>
                <a:stCxn id="226" idx="5"/>
                <a:endCxn id="232" idx="0"/>
              </p:cNvCxnSpPr>
              <p:nvPr/>
            </p:nvCxnSpPr>
            <p:spPr>
              <a:xfrm>
                <a:off x="6074280" y="4858560"/>
                <a:ext cx="47520" cy="155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"/>
              <p:cNvCxnSpPr>
                <a:stCxn id="226" idx="5"/>
                <a:endCxn id="235" idx="1"/>
              </p:cNvCxnSpPr>
              <p:nvPr/>
            </p:nvCxnSpPr>
            <p:spPr>
              <a:xfrm>
                <a:off x="6074280" y="4858560"/>
                <a:ext cx="108720" cy="118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"/>
              <p:cNvCxnSpPr>
                <a:stCxn id="226" idx="6"/>
                <a:endCxn id="231" idx="2"/>
              </p:cNvCxnSpPr>
              <p:nvPr/>
            </p:nvCxnSpPr>
            <p:spPr>
              <a:xfrm>
                <a:off x="6084720" y="4833360"/>
                <a:ext cx="143280" cy="7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4" name=""/>
              <p:cNvCxnSpPr>
                <a:stCxn id="226" idx="6"/>
                <a:endCxn id="230" idx="3"/>
              </p:cNvCxnSpPr>
              <p:nvPr/>
            </p:nvCxnSpPr>
            <p:spPr>
              <a:xfrm flipV="1">
                <a:off x="6084720" y="4785480"/>
                <a:ext cx="153720" cy="4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5" name=""/>
              <p:cNvCxnSpPr>
                <a:stCxn id="226" idx="7"/>
                <a:endCxn id="229" idx="3"/>
              </p:cNvCxnSpPr>
              <p:nvPr/>
            </p:nvCxnSpPr>
            <p:spPr>
              <a:xfrm flipV="1">
                <a:off x="6074280" y="4642560"/>
                <a:ext cx="928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6" name=""/>
              <p:cNvCxnSpPr>
                <a:stCxn id="226" idx="0"/>
                <a:endCxn id="228" idx="4"/>
              </p:cNvCxnSpPr>
              <p:nvPr/>
            </p:nvCxnSpPr>
            <p:spPr>
              <a:xfrm flipV="1">
                <a:off x="6048360" y="4579920"/>
                <a:ext cx="360" cy="217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7" name=""/>
              <p:cNvCxnSpPr>
                <a:stCxn id="226" idx="0"/>
                <a:endCxn id="236" idx="4"/>
              </p:cNvCxnSpPr>
              <p:nvPr/>
            </p:nvCxnSpPr>
            <p:spPr>
              <a:xfrm flipH="1" flipV="1">
                <a:off x="5943600" y="4613400"/>
                <a:ext cx="105120" cy="18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8" name=""/>
              <p:cNvCxnSpPr>
                <a:stCxn id="226" idx="1"/>
                <a:endCxn id="227" idx="5"/>
              </p:cNvCxnSpPr>
              <p:nvPr/>
            </p:nvCxnSpPr>
            <p:spPr>
              <a:xfrm flipH="1" flipV="1">
                <a:off x="5891760" y="4661640"/>
                <a:ext cx="131040" cy="14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9" name=""/>
              <p:cNvCxnSpPr>
                <a:stCxn id="226" idx="1"/>
                <a:endCxn id="237" idx="5"/>
              </p:cNvCxnSpPr>
              <p:nvPr/>
            </p:nvCxnSpPr>
            <p:spPr>
              <a:xfrm flipH="1" flipV="1">
                <a:off x="5828400" y="4747320"/>
                <a:ext cx="194400" cy="6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0" name=""/>
              <p:cNvCxnSpPr>
                <a:stCxn id="226" idx="2"/>
                <a:endCxn id="238" idx="6"/>
              </p:cNvCxnSpPr>
              <p:nvPr/>
            </p:nvCxnSpPr>
            <p:spPr>
              <a:xfrm flipH="1" flipV="1">
                <a:off x="5835600" y="4814280"/>
                <a:ext cx="176760" cy="1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1" name=""/>
              <p:cNvCxnSpPr>
                <a:stCxn id="226" idx="2"/>
                <a:endCxn id="239" idx="7"/>
              </p:cNvCxnSpPr>
              <p:nvPr/>
            </p:nvCxnSpPr>
            <p:spPr>
              <a:xfrm flipH="1">
                <a:off x="5836320" y="4833360"/>
                <a:ext cx="176040" cy="5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"/>
              <p:cNvCxnSpPr>
                <a:stCxn id="239" idx="3"/>
                <a:endCxn id="246" idx="7"/>
              </p:cNvCxnSpPr>
              <p:nvPr/>
            </p:nvCxnSpPr>
            <p:spPr>
              <a:xfrm flipH="1">
                <a:off x="5725080" y="4941000"/>
                <a:ext cx="59400" cy="25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"/>
              <p:cNvCxnSpPr>
                <a:stCxn id="246" idx="2"/>
                <a:endCxn id="247" idx="7"/>
              </p:cNvCxnSpPr>
              <p:nvPr/>
            </p:nvCxnSpPr>
            <p:spPr>
              <a:xfrm flipH="1">
                <a:off x="5498280" y="4992120"/>
                <a:ext cx="164520" cy="32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"/>
              <p:cNvCxnSpPr>
                <a:stCxn id="247" idx="2"/>
                <a:endCxn id="248" idx="7"/>
              </p:cNvCxnSpPr>
              <p:nvPr/>
            </p:nvCxnSpPr>
            <p:spPr>
              <a:xfrm flipH="1">
                <a:off x="5282280" y="5049000"/>
                <a:ext cx="15372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5" name=""/>
              <p:cNvCxnSpPr>
                <a:stCxn id="233" idx="2"/>
                <a:endCxn id="240" idx="0"/>
              </p:cNvCxnSpPr>
              <p:nvPr/>
            </p:nvCxnSpPr>
            <p:spPr>
              <a:xfrm flipH="1">
                <a:off x="5818320" y="5049000"/>
                <a:ext cx="49320" cy="59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6" name=""/>
              <p:cNvCxnSpPr>
                <a:stCxn id="240" idx="2"/>
                <a:endCxn id="245" idx="5"/>
              </p:cNvCxnSpPr>
              <p:nvPr/>
            </p:nvCxnSpPr>
            <p:spPr>
              <a:xfrm flipH="1" flipV="1">
                <a:off x="5642640" y="5134680"/>
                <a:ext cx="139320" cy="1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7" name=""/>
              <p:cNvCxnSpPr>
                <a:stCxn id="240" idx="3"/>
                <a:endCxn id="244" idx="6"/>
              </p:cNvCxnSpPr>
              <p:nvPr/>
            </p:nvCxnSpPr>
            <p:spPr>
              <a:xfrm flipH="1">
                <a:off x="5661000" y="5169600"/>
                <a:ext cx="131400" cy="33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8" name=""/>
              <p:cNvCxnSpPr>
                <a:stCxn id="240" idx="3"/>
                <a:endCxn id="243" idx="7"/>
              </p:cNvCxnSpPr>
              <p:nvPr/>
            </p:nvCxnSpPr>
            <p:spPr>
              <a:xfrm flipH="1">
                <a:off x="5711040" y="5169600"/>
                <a:ext cx="81360" cy="106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9" name=""/>
              <p:cNvCxnSpPr>
                <a:stCxn id="240" idx="4"/>
                <a:endCxn id="242" idx="7"/>
              </p:cNvCxnSpPr>
              <p:nvPr/>
            </p:nvCxnSpPr>
            <p:spPr>
              <a:xfrm flipH="1">
                <a:off x="5809320" y="5180040"/>
                <a:ext cx="9360" cy="15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0" name=""/>
              <p:cNvCxnSpPr>
                <a:stCxn id="240" idx="5"/>
                <a:endCxn id="241" idx="1"/>
              </p:cNvCxnSpPr>
              <p:nvPr/>
            </p:nvCxnSpPr>
            <p:spPr>
              <a:xfrm>
                <a:off x="5844240" y="5169600"/>
                <a:ext cx="106920" cy="141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71" name=""/>
              <p:cNvSpPr/>
              <p:nvPr/>
            </p:nvSpPr>
            <p:spPr>
              <a:xfrm>
                <a:off x="6156360" y="51577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8472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94520" y="5348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23040" y="53290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4960" y="52102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08840" y="547704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46920" y="562464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18320" y="541980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80000" y="5445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37240" y="5532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32640" y="562932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37400" y="565452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32440" y="5589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4" name=""/>
              <p:cNvCxnSpPr>
                <a:stCxn id="278" idx="2"/>
                <a:endCxn id="279" idx="7"/>
              </p:cNvCxnSpPr>
              <p:nvPr/>
            </p:nvCxnSpPr>
            <p:spPr>
              <a:xfrm flipH="1">
                <a:off x="5642640" y="5455440"/>
                <a:ext cx="1760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5" name=""/>
              <p:cNvCxnSpPr>
                <a:stCxn id="278" idx="3"/>
                <a:endCxn id="280" idx="7"/>
              </p:cNvCxnSpPr>
              <p:nvPr/>
            </p:nvCxnSpPr>
            <p:spPr>
              <a:xfrm flipH="1">
                <a:off x="5699880" y="5480640"/>
                <a:ext cx="129240" cy="62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6" name=""/>
              <p:cNvCxnSpPr>
                <a:stCxn id="278" idx="4"/>
                <a:endCxn id="281" idx="0"/>
              </p:cNvCxnSpPr>
              <p:nvPr/>
            </p:nvCxnSpPr>
            <p:spPr>
              <a:xfrm flipH="1">
                <a:off x="5769000" y="5491080"/>
                <a:ext cx="86040" cy="13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7" name=""/>
              <p:cNvCxnSpPr>
                <a:stCxn id="278" idx="4"/>
                <a:endCxn id="282" idx="0"/>
              </p:cNvCxnSpPr>
              <p:nvPr/>
            </p:nvCxnSpPr>
            <p:spPr>
              <a:xfrm>
                <a:off x="5854680" y="5491080"/>
                <a:ext cx="19440" cy="16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"/>
              <p:cNvCxnSpPr>
                <a:stCxn id="278" idx="5"/>
                <a:endCxn id="283" idx="1"/>
              </p:cNvCxnSpPr>
              <p:nvPr/>
            </p:nvCxnSpPr>
            <p:spPr>
              <a:xfrm>
                <a:off x="5880600" y="5480640"/>
                <a:ext cx="62640" cy="119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"/>
              <p:cNvCxnSpPr>
                <a:stCxn id="240" idx="4"/>
                <a:endCxn id="278" idx="0"/>
              </p:cNvCxnSpPr>
              <p:nvPr/>
            </p:nvCxnSpPr>
            <p:spPr>
              <a:xfrm>
                <a:off x="5818320" y="5180040"/>
                <a:ext cx="36720" cy="24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"/>
              <p:cNvCxnSpPr>
                <a:stCxn id="232" idx="5"/>
                <a:endCxn id="271" idx="0"/>
              </p:cNvCxnSpPr>
              <p:nvPr/>
            </p:nvCxnSpPr>
            <p:spPr>
              <a:xfrm>
                <a:off x="6147360" y="5074200"/>
                <a:ext cx="4608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1" name=""/>
              <p:cNvCxnSpPr>
                <a:stCxn id="271" idx="3"/>
                <a:endCxn id="272" idx="0"/>
              </p:cNvCxnSpPr>
              <p:nvPr/>
            </p:nvCxnSpPr>
            <p:spPr>
              <a:xfrm flipH="1">
                <a:off x="6121440" y="5218920"/>
                <a:ext cx="4572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2" name=""/>
              <p:cNvCxnSpPr>
                <a:stCxn id="271" idx="4"/>
                <a:endCxn id="273" idx="0"/>
              </p:cNvCxnSpPr>
              <p:nvPr/>
            </p:nvCxnSpPr>
            <p:spPr>
              <a:xfrm>
                <a:off x="6193080" y="5229360"/>
                <a:ext cx="38520" cy="11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3" name=""/>
              <p:cNvCxnSpPr>
                <a:stCxn id="275" idx="1"/>
                <a:endCxn id="271" idx="6"/>
              </p:cNvCxnSpPr>
              <p:nvPr/>
            </p:nvCxnSpPr>
            <p:spPr>
              <a:xfrm flipH="1" flipV="1">
                <a:off x="6229440" y="5193720"/>
                <a:ext cx="166320" cy="2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4" name=""/>
              <p:cNvCxnSpPr>
                <a:stCxn id="274" idx="1"/>
                <a:endCxn id="271" idx="5"/>
              </p:cNvCxnSpPr>
              <p:nvPr/>
            </p:nvCxnSpPr>
            <p:spPr>
              <a:xfrm flipH="1" flipV="1">
                <a:off x="6219000" y="5218920"/>
                <a:ext cx="114840" cy="120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5" name=""/>
              <p:cNvCxnSpPr>
                <a:stCxn id="273" idx="3"/>
                <a:endCxn id="276" idx="7"/>
              </p:cNvCxnSpPr>
              <p:nvPr/>
            </p:nvCxnSpPr>
            <p:spPr>
              <a:xfrm flipH="1">
                <a:off x="6171120" y="5409360"/>
                <a:ext cx="34200" cy="78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6" name=""/>
              <p:cNvCxnSpPr>
                <a:stCxn id="276" idx="3"/>
                <a:endCxn id="277" idx="0"/>
              </p:cNvCxnSpPr>
              <p:nvPr/>
            </p:nvCxnSpPr>
            <p:spPr>
              <a:xfrm flipH="1">
                <a:off x="6083280" y="5537880"/>
                <a:ext cx="36360" cy="8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7" name=""/>
              <p:cNvSpPr/>
              <p:nvPr/>
            </p:nvSpPr>
            <p:spPr>
              <a:xfrm>
                <a:off x="5435640" y="5373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35640" y="51577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872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0" name=""/>
              <p:cNvCxnSpPr>
                <a:stCxn id="244" idx="2"/>
                <a:endCxn id="298" idx="6"/>
              </p:cNvCxnSpPr>
              <p:nvPr/>
            </p:nvCxnSpPr>
            <p:spPr>
              <a:xfrm flipH="1" flipV="1">
                <a:off x="5508720" y="5193720"/>
                <a:ext cx="79560" cy="9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1" name=""/>
              <p:cNvCxnSpPr>
                <a:stCxn id="243" idx="2"/>
                <a:endCxn id="299" idx="6"/>
              </p:cNvCxnSpPr>
              <p:nvPr/>
            </p:nvCxnSpPr>
            <p:spPr>
              <a:xfrm flipH="1">
                <a:off x="5581800" y="5301360"/>
                <a:ext cx="66960" cy="3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9" idx="1"/>
                <a:endCxn id="297" idx="5"/>
              </p:cNvCxnSpPr>
              <p:nvPr/>
            </p:nvCxnSpPr>
            <p:spPr>
              <a:xfrm flipH="1" flipV="1">
                <a:off x="5498280" y="5434560"/>
                <a:ext cx="925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3" name=""/>
              <p:cNvSpPr/>
              <p:nvPr/>
            </p:nvSpPr>
            <p:spPr>
              <a:xfrm>
                <a:off x="5435640" y="55166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35640" y="56595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16480" y="5607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64280" y="54878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11720" y="5369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02280" y="55022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49800" y="5640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49720" y="5369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1" name=""/>
              <p:cNvCxnSpPr>
                <a:stCxn id="279" idx="3"/>
                <a:endCxn id="303" idx="7"/>
              </p:cNvCxnSpPr>
              <p:nvPr/>
            </p:nvCxnSpPr>
            <p:spPr>
              <a:xfrm flipH="1">
                <a:off x="5498280" y="5506200"/>
                <a:ext cx="925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303" idx="4"/>
                <a:endCxn id="304" idx="0"/>
              </p:cNvCxnSpPr>
              <p:nvPr/>
            </p:nvCxnSpPr>
            <p:spPr>
              <a:xfrm>
                <a:off x="5472360" y="5587920"/>
                <a:ext cx="360" cy="7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3" name=""/>
              <p:cNvCxnSpPr>
                <a:stCxn id="303" idx="3"/>
                <a:endCxn id="305" idx="7"/>
              </p:cNvCxnSpPr>
              <p:nvPr/>
            </p:nvCxnSpPr>
            <p:spPr>
              <a:xfrm flipH="1">
                <a:off x="5379120" y="5577480"/>
                <a:ext cx="67320" cy="4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4" name=""/>
              <p:cNvCxnSpPr>
                <a:stCxn id="303" idx="1"/>
                <a:endCxn id="306" idx="6"/>
              </p:cNvCxnSpPr>
              <p:nvPr/>
            </p:nvCxnSpPr>
            <p:spPr>
              <a:xfrm flipH="1" flipV="1">
                <a:off x="5337000" y="5523840"/>
                <a:ext cx="10944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"/>
              <p:cNvCxnSpPr>
                <a:stCxn id="306" idx="0"/>
                <a:endCxn id="307" idx="4"/>
              </p:cNvCxnSpPr>
              <p:nvPr/>
            </p:nvCxnSpPr>
            <p:spPr>
              <a:xfrm flipH="1" flipV="1">
                <a:off x="5248440" y="5440320"/>
                <a:ext cx="5256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6" name=""/>
              <p:cNvCxnSpPr>
                <a:stCxn id="306" idx="3"/>
                <a:endCxn id="309" idx="7"/>
              </p:cNvCxnSpPr>
              <p:nvPr/>
            </p:nvCxnSpPr>
            <p:spPr>
              <a:xfrm flipH="1">
                <a:off x="5212440" y="5549040"/>
                <a:ext cx="62640" cy="10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>
                <a:stCxn id="306" idx="3"/>
                <a:endCxn id="308" idx="6"/>
              </p:cNvCxnSpPr>
              <p:nvPr/>
            </p:nvCxnSpPr>
            <p:spPr>
              <a:xfrm flipH="1" flipV="1">
                <a:off x="5175360" y="5538240"/>
                <a:ext cx="99720" cy="11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8" name=""/>
              <p:cNvCxnSpPr>
                <a:stCxn id="308" idx="0"/>
                <a:endCxn id="310" idx="4"/>
              </p:cNvCxnSpPr>
              <p:nvPr/>
            </p:nvCxnSpPr>
            <p:spPr>
              <a:xfrm flipH="1" flipV="1">
                <a:off x="5086440" y="5440320"/>
                <a:ext cx="52920" cy="6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9" name=""/>
              <p:cNvSpPr/>
              <p:nvPr/>
            </p:nvSpPr>
            <p:spPr>
              <a:xfrm>
                <a:off x="6303960" y="45957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77120" y="45021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31040" y="4394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9280" y="4338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48400" y="4340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02360" y="43228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04080" y="405756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24680" y="40784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30880" y="41274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75520" y="421488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05480" y="4145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394668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318360" y="40575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2" name=""/>
              <p:cNvCxnSpPr>
                <a:stCxn id="226" idx="7"/>
                <a:endCxn id="324" idx="4"/>
              </p:cNvCxnSpPr>
              <p:nvPr/>
            </p:nvCxnSpPr>
            <p:spPr>
              <a:xfrm flipV="1">
                <a:off x="6074280" y="4394160"/>
                <a:ext cx="65160" cy="414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3" name=""/>
              <p:cNvCxnSpPr>
                <a:stCxn id="324" idx="0"/>
                <a:endCxn id="325" idx="5"/>
              </p:cNvCxnSpPr>
              <p:nvPr/>
            </p:nvCxnSpPr>
            <p:spPr>
              <a:xfrm flipH="1" flipV="1">
                <a:off x="6066360" y="4118760"/>
                <a:ext cx="73080" cy="20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4" name=""/>
              <p:cNvCxnSpPr>
                <a:stCxn id="324" idx="0"/>
                <a:endCxn id="326" idx="4"/>
              </p:cNvCxnSpPr>
              <p:nvPr/>
            </p:nvCxnSpPr>
            <p:spPr>
              <a:xfrm flipV="1">
                <a:off x="6139080" y="4149720"/>
                <a:ext cx="22680" cy="17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5" name=""/>
              <p:cNvCxnSpPr>
                <a:stCxn id="324" idx="0"/>
                <a:endCxn id="327" idx="3"/>
              </p:cNvCxnSpPr>
              <p:nvPr/>
            </p:nvCxnSpPr>
            <p:spPr>
              <a:xfrm flipV="1">
                <a:off x="6139080" y="4188600"/>
                <a:ext cx="102600" cy="134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6" name=""/>
              <p:cNvCxnSpPr>
                <a:stCxn id="324" idx="0"/>
                <a:endCxn id="328" idx="3"/>
              </p:cNvCxnSpPr>
              <p:nvPr/>
            </p:nvCxnSpPr>
            <p:spPr>
              <a:xfrm flipV="1">
                <a:off x="6139080" y="4275720"/>
                <a:ext cx="147240" cy="4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"/>
              <p:cNvCxnSpPr>
                <a:stCxn id="326" idx="7"/>
                <a:endCxn id="330" idx="4"/>
              </p:cNvCxnSpPr>
              <p:nvPr/>
            </p:nvCxnSpPr>
            <p:spPr>
              <a:xfrm flipV="1">
                <a:off x="6187320" y="4017960"/>
                <a:ext cx="28080" cy="7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"/>
              <p:cNvCxnSpPr>
                <a:stCxn id="327" idx="7"/>
                <a:endCxn id="331" idx="3"/>
              </p:cNvCxnSpPr>
              <p:nvPr/>
            </p:nvCxnSpPr>
            <p:spPr>
              <a:xfrm flipV="1">
                <a:off x="6293520" y="4118760"/>
                <a:ext cx="35640" cy="1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9" name=""/>
              <p:cNvCxnSpPr>
                <a:stCxn id="328" idx="6"/>
                <a:endCxn id="329" idx="3"/>
              </p:cNvCxnSpPr>
              <p:nvPr/>
            </p:nvCxnSpPr>
            <p:spPr>
              <a:xfrm flipV="1">
                <a:off x="6348240" y="4205880"/>
                <a:ext cx="68040" cy="45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0" name=""/>
              <p:cNvCxnSpPr>
                <a:stCxn id="226" idx="7"/>
                <a:endCxn id="319" idx="3"/>
              </p:cNvCxnSpPr>
              <p:nvPr/>
            </p:nvCxnSpPr>
            <p:spPr>
              <a:xfrm flipV="1">
                <a:off x="6074280" y="4656960"/>
                <a:ext cx="240480" cy="15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1" name=""/>
              <p:cNvCxnSpPr>
                <a:stCxn id="319" idx="0"/>
                <a:endCxn id="322" idx="4"/>
              </p:cNvCxnSpPr>
              <p:nvPr/>
            </p:nvCxnSpPr>
            <p:spPr>
              <a:xfrm flipH="1" flipV="1">
                <a:off x="6336000" y="4410000"/>
                <a:ext cx="5040" cy="186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2" name=""/>
              <p:cNvCxnSpPr>
                <a:stCxn id="319" idx="7"/>
                <a:endCxn id="321" idx="3"/>
              </p:cNvCxnSpPr>
              <p:nvPr/>
            </p:nvCxnSpPr>
            <p:spPr>
              <a:xfrm flipV="1">
                <a:off x="6366600" y="4455360"/>
                <a:ext cx="75240" cy="15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3" name=""/>
              <p:cNvCxnSpPr>
                <a:stCxn id="319" idx="7"/>
                <a:endCxn id="320" idx="3"/>
              </p:cNvCxnSpPr>
              <p:nvPr/>
            </p:nvCxnSpPr>
            <p:spPr>
              <a:xfrm flipV="1">
                <a:off x="6366600" y="4563000"/>
                <a:ext cx="121320" cy="43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4" name=""/>
              <p:cNvCxnSpPr>
                <a:stCxn id="321" idx="6"/>
                <a:endCxn id="323" idx="3"/>
              </p:cNvCxnSpPr>
              <p:nvPr/>
            </p:nvCxnSpPr>
            <p:spPr>
              <a:xfrm flipV="1">
                <a:off x="6504120" y="4401360"/>
                <a:ext cx="55080" cy="2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45" name=""/>
              <p:cNvSpPr/>
              <p:nvPr/>
            </p:nvSpPr>
            <p:spPr>
              <a:xfrm>
                <a:off x="6531120" y="460368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85120" y="470520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88000" y="48070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516720" y="49086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9" name=""/>
              <p:cNvCxnSpPr>
                <a:stCxn id="230" idx="6"/>
                <a:endCxn id="345" idx="3"/>
              </p:cNvCxnSpPr>
              <p:nvPr/>
            </p:nvCxnSpPr>
            <p:spPr>
              <a:xfrm flipV="1">
                <a:off x="6300720" y="4664880"/>
                <a:ext cx="241200" cy="9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0" name=""/>
              <p:cNvCxnSpPr>
                <a:stCxn id="230" idx="6"/>
                <a:endCxn id="346" idx="2"/>
              </p:cNvCxnSpPr>
              <p:nvPr/>
            </p:nvCxnSpPr>
            <p:spPr>
              <a:xfrm flipV="1">
                <a:off x="6300720" y="4741200"/>
                <a:ext cx="284760" cy="1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1" name=""/>
              <p:cNvCxnSpPr>
                <a:stCxn id="230" idx="6"/>
                <a:endCxn id="347" idx="2"/>
              </p:cNvCxnSpPr>
              <p:nvPr/>
            </p:nvCxnSpPr>
            <p:spPr>
              <a:xfrm>
                <a:off x="6300720" y="4760280"/>
                <a:ext cx="287640" cy="82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2" name=""/>
              <p:cNvCxnSpPr>
                <a:stCxn id="230" idx="6"/>
                <a:endCxn id="348" idx="1"/>
              </p:cNvCxnSpPr>
              <p:nvPr/>
            </p:nvCxnSpPr>
            <p:spPr>
              <a:xfrm>
                <a:off x="6300720" y="4760280"/>
                <a:ext cx="226800" cy="15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651672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491160" y="50752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5" name=""/>
              <p:cNvCxnSpPr>
                <a:stCxn id="230" idx="5"/>
                <a:endCxn id="354" idx="1"/>
              </p:cNvCxnSpPr>
              <p:nvPr/>
            </p:nvCxnSpPr>
            <p:spPr>
              <a:xfrm>
                <a:off x="6290280" y="4785480"/>
                <a:ext cx="211680" cy="30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6" name=""/>
              <p:cNvCxnSpPr>
                <a:stCxn id="354" idx="4"/>
                <a:endCxn id="353" idx="1"/>
              </p:cNvCxnSpPr>
              <p:nvPr/>
            </p:nvCxnSpPr>
            <p:spPr>
              <a:xfrm flipH="1">
                <a:off x="6527160" y="5146560"/>
                <a:ext cx="1080" cy="16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57" name=""/>
              <p:cNvSpPr/>
              <p:nvPr/>
            </p:nvSpPr>
            <p:spPr>
              <a:xfrm>
                <a:off x="6746760" y="54165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6000" y="5499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5240" y="55818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41920" y="5616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48320" y="5589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45360" y="55339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0760" y="562608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24760" y="571356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35640" y="5748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513480" y="57592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29400" y="58374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92960" y="59198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9" name=""/>
              <p:cNvCxnSpPr>
                <a:stCxn id="366" idx="4"/>
                <a:endCxn id="368" idx="0"/>
              </p:cNvCxnSpPr>
              <p:nvPr/>
            </p:nvCxnSpPr>
            <p:spPr>
              <a:xfrm flipH="1">
                <a:off x="6529680" y="5830920"/>
                <a:ext cx="20880" cy="89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0" name=""/>
              <p:cNvCxnSpPr>
                <a:stCxn id="366" idx="6"/>
                <a:endCxn id="367" idx="1"/>
              </p:cNvCxnSpPr>
              <p:nvPr/>
            </p:nvCxnSpPr>
            <p:spPr>
              <a:xfrm>
                <a:off x="6586560" y="5795280"/>
                <a:ext cx="53640" cy="52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1" name=""/>
              <p:cNvCxnSpPr>
                <a:stCxn id="361" idx="5"/>
                <a:endCxn id="366" idx="0"/>
              </p:cNvCxnSpPr>
              <p:nvPr/>
            </p:nvCxnSpPr>
            <p:spPr>
              <a:xfrm>
                <a:off x="6510960" y="5650560"/>
                <a:ext cx="39600" cy="10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2" name=""/>
              <p:cNvCxnSpPr>
                <a:stCxn id="353" idx="3"/>
                <a:endCxn id="362" idx="7"/>
              </p:cNvCxnSpPr>
              <p:nvPr/>
            </p:nvCxnSpPr>
            <p:spPr>
              <a:xfrm flipH="1">
                <a:off x="6408000" y="5361840"/>
                <a:ext cx="119520" cy="18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3" name=""/>
              <p:cNvCxnSpPr>
                <a:stCxn id="362" idx="3"/>
                <a:endCxn id="363" idx="7"/>
              </p:cNvCxnSpPr>
              <p:nvPr/>
            </p:nvCxnSpPr>
            <p:spPr>
              <a:xfrm flipH="1">
                <a:off x="6233040" y="5595120"/>
                <a:ext cx="123120" cy="41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4" name=""/>
              <p:cNvCxnSpPr>
                <a:stCxn id="362" idx="3"/>
                <a:endCxn id="364" idx="7"/>
              </p:cNvCxnSpPr>
              <p:nvPr/>
            </p:nvCxnSpPr>
            <p:spPr>
              <a:xfrm flipH="1">
                <a:off x="6287040" y="5595120"/>
                <a:ext cx="69120" cy="129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5" name=""/>
              <p:cNvCxnSpPr>
                <a:stCxn id="362" idx="4"/>
                <a:endCxn id="365" idx="0"/>
              </p:cNvCxnSpPr>
              <p:nvPr/>
            </p:nvCxnSpPr>
            <p:spPr>
              <a:xfrm flipH="1">
                <a:off x="6372360" y="5605560"/>
                <a:ext cx="10080" cy="143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6" name=""/>
              <p:cNvCxnSpPr>
                <a:stCxn id="361" idx="0"/>
                <a:endCxn id="353" idx="3"/>
              </p:cNvCxnSpPr>
              <p:nvPr/>
            </p:nvCxnSpPr>
            <p:spPr>
              <a:xfrm flipV="1">
                <a:off x="6485040" y="5361840"/>
                <a:ext cx="42480" cy="22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7" name=""/>
              <p:cNvCxnSpPr>
                <a:stCxn id="360" idx="0"/>
                <a:endCxn id="353" idx="4"/>
              </p:cNvCxnSpPr>
              <p:nvPr/>
            </p:nvCxnSpPr>
            <p:spPr>
              <a:xfrm flipH="1" flipV="1">
                <a:off x="6553440" y="5372280"/>
                <a:ext cx="25560" cy="244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8" name=""/>
              <p:cNvCxnSpPr>
                <a:stCxn id="359" idx="1"/>
                <a:endCxn id="353" idx="4"/>
              </p:cNvCxnSpPr>
              <p:nvPr/>
            </p:nvCxnSpPr>
            <p:spPr>
              <a:xfrm flipH="1" flipV="1">
                <a:off x="6553440" y="5372280"/>
                <a:ext cx="102600" cy="22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9" name=""/>
              <p:cNvCxnSpPr>
                <a:stCxn id="358" idx="1"/>
                <a:endCxn id="353" idx="4"/>
              </p:cNvCxnSpPr>
              <p:nvPr/>
            </p:nvCxnSpPr>
            <p:spPr>
              <a:xfrm flipH="1" flipV="1">
                <a:off x="6553440" y="5372280"/>
                <a:ext cx="153360" cy="13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0" name=""/>
              <p:cNvCxnSpPr>
                <a:stCxn id="357" idx="1"/>
                <a:endCxn id="353" idx="5"/>
              </p:cNvCxnSpPr>
              <p:nvPr/>
            </p:nvCxnSpPr>
            <p:spPr>
              <a:xfrm flipH="1" flipV="1">
                <a:off x="6579360" y="5361840"/>
                <a:ext cx="178200" cy="6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1" name=""/>
              <p:cNvSpPr/>
              <p:nvPr/>
            </p:nvSpPr>
            <p:spPr>
              <a:xfrm>
                <a:off x="6168960" y="58626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75520" y="58784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3" name=""/>
              <p:cNvCxnSpPr>
                <a:stCxn id="364" idx="4"/>
                <a:endCxn id="381" idx="0"/>
              </p:cNvCxnSpPr>
              <p:nvPr/>
            </p:nvCxnSpPr>
            <p:spPr>
              <a:xfrm flipH="1">
                <a:off x="6205680" y="5784840"/>
                <a:ext cx="55800" cy="78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"/>
              <p:cNvCxnSpPr>
                <a:stCxn id="364" idx="4"/>
                <a:endCxn id="382" idx="0"/>
              </p:cNvCxnSpPr>
              <p:nvPr/>
            </p:nvCxnSpPr>
            <p:spPr>
              <a:xfrm>
                <a:off x="6261120" y="5784840"/>
                <a:ext cx="5112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5" name=""/>
              <p:cNvSpPr/>
              <p:nvPr/>
            </p:nvSpPr>
            <p:spPr>
              <a:xfrm>
                <a:off x="5796000" y="4437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37000" y="44038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49960" y="43038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05400" y="41752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484960" y="41036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92600" y="40561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9680" y="4010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23000" y="40258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00680" y="38322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16600" y="38671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551560" y="4416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52920" y="45799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54640" y="47433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280120" y="4659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00640" y="45370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26120" y="48434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1" name=""/>
              <p:cNvCxnSpPr>
                <a:stCxn id="400" idx="7"/>
                <a:endCxn id="397" idx="3"/>
              </p:cNvCxnSpPr>
              <p:nvPr/>
            </p:nvCxnSpPr>
            <p:spPr>
              <a:xfrm flipV="1">
                <a:off x="5288760" y="4804560"/>
                <a:ext cx="76680" cy="4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2" name=""/>
              <p:cNvCxnSpPr>
                <a:stCxn id="397" idx="7"/>
                <a:endCxn id="396" idx="3"/>
              </p:cNvCxnSpPr>
              <p:nvPr/>
            </p:nvCxnSpPr>
            <p:spPr>
              <a:xfrm flipV="1">
                <a:off x="5417280" y="4640760"/>
                <a:ext cx="46440" cy="11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3" name=""/>
              <p:cNvCxnSpPr>
                <a:stCxn id="396" idx="6"/>
                <a:endCxn id="385" idx="3"/>
              </p:cNvCxnSpPr>
              <p:nvPr/>
            </p:nvCxnSpPr>
            <p:spPr>
              <a:xfrm flipV="1">
                <a:off x="5526000" y="4498200"/>
                <a:ext cx="280800" cy="117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4" name=""/>
              <p:cNvCxnSpPr>
                <a:stCxn id="398" idx="7"/>
                <a:endCxn id="396" idx="3"/>
              </p:cNvCxnSpPr>
              <p:nvPr/>
            </p:nvCxnSpPr>
            <p:spPr>
              <a:xfrm flipV="1">
                <a:off x="5342760" y="4640760"/>
                <a:ext cx="120960" cy="2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>
                <a:stCxn id="399" idx="6"/>
                <a:endCxn id="396" idx="3"/>
              </p:cNvCxnSpPr>
              <p:nvPr/>
            </p:nvCxnSpPr>
            <p:spPr>
              <a:xfrm>
                <a:off x="5373720" y="4572720"/>
                <a:ext cx="90000" cy="68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6" name=""/>
              <p:cNvCxnSpPr>
                <a:stCxn id="385" idx="2"/>
                <a:endCxn id="395" idx="6"/>
              </p:cNvCxnSpPr>
              <p:nvPr/>
            </p:nvCxnSpPr>
            <p:spPr>
              <a:xfrm flipH="1" flipV="1">
                <a:off x="5624640" y="4452120"/>
                <a:ext cx="1717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7" name=""/>
              <p:cNvCxnSpPr>
                <a:stCxn id="395" idx="2"/>
                <a:endCxn id="386" idx="6"/>
              </p:cNvCxnSpPr>
              <p:nvPr/>
            </p:nvCxnSpPr>
            <p:spPr>
              <a:xfrm flipH="1" flipV="1">
                <a:off x="5410080" y="4439520"/>
                <a:ext cx="141840" cy="1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"/>
              <p:cNvCxnSpPr>
                <a:stCxn id="385" idx="1"/>
                <a:endCxn id="387" idx="6"/>
              </p:cNvCxnSpPr>
              <p:nvPr/>
            </p:nvCxnSpPr>
            <p:spPr>
              <a:xfrm flipH="1" flipV="1">
                <a:off x="5423040" y="4339440"/>
                <a:ext cx="383760" cy="108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"/>
              <p:cNvCxnSpPr>
                <a:stCxn id="385" idx="1"/>
                <a:endCxn id="388" idx="5"/>
              </p:cNvCxnSpPr>
              <p:nvPr/>
            </p:nvCxnSpPr>
            <p:spPr>
              <a:xfrm flipH="1" flipV="1">
                <a:off x="5468040" y="4236120"/>
                <a:ext cx="338760" cy="211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0" name=""/>
              <p:cNvCxnSpPr>
                <a:stCxn id="385" idx="1"/>
                <a:endCxn id="389" idx="5"/>
              </p:cNvCxnSpPr>
              <p:nvPr/>
            </p:nvCxnSpPr>
            <p:spPr>
              <a:xfrm flipH="1" flipV="1">
                <a:off x="5547240" y="4164840"/>
                <a:ext cx="259560" cy="28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1" name=""/>
              <p:cNvCxnSpPr>
                <a:stCxn id="385" idx="1"/>
                <a:endCxn id="390" idx="5"/>
              </p:cNvCxnSpPr>
              <p:nvPr/>
            </p:nvCxnSpPr>
            <p:spPr>
              <a:xfrm flipH="1" flipV="1">
                <a:off x="5655240" y="4116960"/>
                <a:ext cx="151560" cy="33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2" name=""/>
              <p:cNvSpPr/>
              <p:nvPr/>
            </p:nvSpPr>
            <p:spPr>
              <a:xfrm>
                <a:off x="5796000" y="42926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3" name=""/>
              <p:cNvCxnSpPr>
                <a:stCxn id="385" idx="0"/>
                <a:endCxn id="412" idx="4"/>
              </p:cNvCxnSpPr>
              <p:nvPr/>
            </p:nvCxnSpPr>
            <p:spPr>
              <a:xfrm flipV="1">
                <a:off x="5832720" y="436392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12" idx="0"/>
                <a:endCxn id="391" idx="4"/>
              </p:cNvCxnSpPr>
              <p:nvPr/>
            </p:nvCxnSpPr>
            <p:spPr>
              <a:xfrm flipH="1" flipV="1">
                <a:off x="5756400" y="4081320"/>
                <a:ext cx="76680" cy="211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5" name=""/>
              <p:cNvCxnSpPr>
                <a:stCxn id="412" idx="0"/>
                <a:endCxn id="392" idx="4"/>
              </p:cNvCxnSpPr>
              <p:nvPr/>
            </p:nvCxnSpPr>
            <p:spPr>
              <a:xfrm flipV="1">
                <a:off x="5832720" y="4097160"/>
                <a:ext cx="27360" cy="19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6" name=""/>
              <p:cNvCxnSpPr>
                <a:stCxn id="392" idx="0"/>
                <a:endCxn id="393" idx="4"/>
              </p:cNvCxnSpPr>
              <p:nvPr/>
            </p:nvCxnSpPr>
            <p:spPr>
              <a:xfrm flipH="1" flipV="1">
                <a:off x="5837400" y="3903840"/>
                <a:ext cx="22680" cy="122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7" name=""/>
              <p:cNvCxnSpPr>
                <a:stCxn id="392" idx="0"/>
                <a:endCxn id="394" idx="3"/>
              </p:cNvCxnSpPr>
              <p:nvPr/>
            </p:nvCxnSpPr>
            <p:spPr>
              <a:xfrm flipV="1">
                <a:off x="5859720" y="3928320"/>
                <a:ext cx="67680" cy="9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8" name=""/>
              <p:cNvSpPr/>
              <p:nvPr/>
            </p:nvSpPr>
            <p:spPr>
              <a:xfrm>
                <a:off x="665964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54680" y="49705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45320" y="48751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1" name=""/>
              <p:cNvCxnSpPr>
                <a:stCxn id="347" idx="5"/>
                <a:endCxn id="418" idx="0"/>
              </p:cNvCxnSpPr>
              <p:nvPr/>
            </p:nvCxnSpPr>
            <p:spPr>
              <a:xfrm>
                <a:off x="6650640" y="4867920"/>
                <a:ext cx="46080" cy="145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2" name=""/>
              <p:cNvCxnSpPr>
                <a:stCxn id="347" idx="5"/>
                <a:endCxn id="419" idx="1"/>
              </p:cNvCxnSpPr>
              <p:nvPr/>
            </p:nvCxnSpPr>
            <p:spPr>
              <a:xfrm>
                <a:off x="6650640" y="4867920"/>
                <a:ext cx="114840" cy="11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3" name=""/>
              <p:cNvCxnSpPr>
                <a:stCxn id="347" idx="5"/>
                <a:endCxn id="420" idx="2"/>
              </p:cNvCxnSpPr>
              <p:nvPr/>
            </p:nvCxnSpPr>
            <p:spPr>
              <a:xfrm>
                <a:off x="6650640" y="4867920"/>
                <a:ext cx="95040" cy="43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4" name=""/>
              <p:cNvSpPr/>
              <p:nvPr/>
            </p:nvSpPr>
            <p:spPr>
              <a:xfrm>
                <a:off x="6877080" y="5084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5" name=""/>
              <p:cNvCxnSpPr>
                <a:stCxn id="419" idx="5"/>
                <a:endCxn id="424" idx="1"/>
              </p:cNvCxnSpPr>
              <p:nvPr/>
            </p:nvCxnSpPr>
            <p:spPr>
              <a:xfrm>
                <a:off x="6817320" y="5031360"/>
                <a:ext cx="70560" cy="6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49:28Z</dcterms:modified>
  <cp:revision>24</cp:revision>
  <dc:subject/>
  <dc:title>Slide 1</dc:title>
</cp:coreProperties>
</file>